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B64-E798-449C-BF0B-A7535172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A34-0F47-4858-9A58-81332247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C83-0362-43D9-A487-DD4C17C9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520-6408-4CB4-ABE2-F902178F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992-2F16-4FC0-8B08-B4228857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214-06F1-4BD2-B586-BB03307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4C9-55AC-488F-B095-258E920B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EFA-D8CE-4A0C-9DDF-D76CE3F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3BB-E707-46D2-933E-60C560E5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5F4-8B7F-4E9E-8E9B-8AF45DE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1CB-E5A3-403A-B8C5-9F3AFD2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3BD-C97A-4F54-8092-FD1D6413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0AC-8F1E-4EAB-BDA9-A3B4B79958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eg/url?sa=i&amp;rct=j&amp;q=&amp;esrc=s&amp;source=images&amp;cd=&amp;cad=rja&amp;docid=eQsM_tAQSHTskM&amp;tbnid=Db3uH7xoQZsfUM:&amp;ved=0CAUQjRw&amp;url=http%3A%2F%2Fen.wikipedia.org%2Fwiki%2FStomach&amp;ei=Ik4DU5H7O6KR0AWg_IDgCw&amp;bvm=bv.61535280,d.d2k&amp;psig=AFQjCNEZuW9hNm3tuG7Ia7wQnS4pIWaZYw&amp;ust=1392811775794391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eg/url?sa=i&amp;rct=j&amp;q=&amp;esrc=s&amp;source=images&amp;cd=&amp;cad=rja&amp;docid=QRWV1mS7Bzu2QM&amp;tbnid=TSAzBjOruaL1LM:&amp;ved=0CAUQjRw&amp;url=http%3A%2F%2Fwww.studyblue.com%2Fnotes%2Fnote%2Fn%2Fanatomy-flash-cards%2Fdeck%2F7019594&amp;ei=hE8DU4XDG-aK0AX02oCYDg&amp;bvm=bv.61535280,d.d2k&amp;psig=AFQjCNG8bGYvsd81JH32wUKH7cxa5-TlaQ&amp;ust=139281209189299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643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2- Venous drainage of the stom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left and right gastric ve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in directly into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portal vei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short gastric ve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left gastroepiploic ve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lenic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right gastroepiploic ve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s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uperior mesenteric ve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105080" cy="439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Lymph drainage of stoma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stric lymph vessels drain ultimately into the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celiac lymph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28" descr="24693-0550x0475"/>
          <p:cNvPicPr/>
          <p:nvPr/>
        </p:nvPicPr>
        <p:blipFill>
          <a:blip r:embed="rId1"/>
          <a:srcRect l="0" t="0" r="5610" b="5463"/>
          <a:stretch/>
        </p:blipFill>
        <p:spPr>
          <a:xfrm>
            <a:off x="826920" y="1844640"/>
            <a:ext cx="7794720" cy="50133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000"/>
                </a:solidFill>
                <a:latin typeface="Arial"/>
              </a:rPr>
              <a:t>Nerve supply of the stomach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000"/>
                </a:solidFill>
                <a:latin typeface="Arial"/>
              </a:rPr>
              <a:t>Sympathetic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rom celiac plexus around celiac trunk. It causes relaxation of the wall and contraction of pyloric sphincter. It also carries pain sens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000"/>
                </a:solidFill>
                <a:latin typeface="Arial"/>
              </a:rPr>
              <a:t>Parasympathetic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sympathetic fibers from the right and left vagus nerves. It is secretory to the glands of the stomach, inhibitory to the pyloric sphincter and motor to the wa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rge bran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es to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li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erior mesenteric plex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distributed to the intestine as far as the splenic flexure and to the panc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738440" y="3933720"/>
            <a:ext cx="6073560" cy="280044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76360" y="110664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39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hypochondrium, epigastrim and umbilical regions of the abd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-shaped or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orif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ardiac and pyloric orifi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curv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greater and lesser curvatur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surf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 anterior and a posterior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645080" y="1197000"/>
            <a:ext cx="4259160" cy="48960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5006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s of the stom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e-shaped, projects upward and to the left of the cardiac orif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ually full of g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tends form the fundus to a line extending from  the incisura angularis on the lesser curvature to the prepyloric bulge on the greater curv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yloric p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part of the stomach. It has three parts (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yloric an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pyloric ca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yloric sphinct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00px-Regions_of_stoma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5320" y="428760"/>
            <a:ext cx="3106800" cy="34318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5505480" y="4005360"/>
            <a:ext cx="3328920" cy="27651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vatures of the stomac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 Lesser curva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 the right border of the stom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Extends from cardiac orifice to  pyloru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 lesser omentum extends from the lesser curvature to the liv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It is related to the right and left gastric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88616-193622-33691305088801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344680"/>
            <a:ext cx="6840720" cy="425124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- Greater curvatu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s the left border of the stomac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s from cardiac orifice to  pyloru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gives attachment(from above downwards) to </a:t>
            </a: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gastrophrenic, gastrosplenic ligaments and greater omentum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related to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left gastroepiploic vesse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88616-193622-33691305088801523"/>
          <p:cNvPicPr/>
          <p:nvPr/>
        </p:nvPicPr>
        <p:blipFill>
          <a:blip r:embed="rId1"/>
          <a:stretch/>
        </p:blipFill>
        <p:spPr>
          <a:xfrm>
            <a:off x="250920" y="2997360"/>
            <a:ext cx="4176720" cy="3744720"/>
          </a:xfrm>
          <a:prstGeom prst="rect">
            <a:avLst/>
          </a:prstGeom>
          <a:ln w="19080">
            <a:solidFill>
              <a:srgbClr val="00b05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90720" cy="37447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sp>
        <p:nvSpPr>
          <p:cNvPr id="52" name="Rounded Rectangle 1"/>
          <p:cNvSpPr/>
          <p:nvPr/>
        </p:nvSpPr>
        <p:spPr>
          <a:xfrm>
            <a:off x="7956720" y="5300640"/>
            <a:ext cx="1134720" cy="216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5"/>
          <p:cNvSpPr/>
          <p:nvPr/>
        </p:nvSpPr>
        <p:spPr>
          <a:xfrm>
            <a:off x="6875640" y="6381720"/>
            <a:ext cx="1368360" cy="341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2"/>
          <p:cNvSpPr/>
          <p:nvPr/>
        </p:nvSpPr>
        <p:spPr>
          <a:xfrm>
            <a:off x="3276720" y="3068640"/>
            <a:ext cx="934920" cy="431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7"/>
          <p:cNvSpPr/>
          <p:nvPr/>
        </p:nvSpPr>
        <p:spPr>
          <a:xfrm>
            <a:off x="3429000" y="4221000"/>
            <a:ext cx="998640" cy="432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8"/>
          <p:cNvSpPr/>
          <p:nvPr/>
        </p:nvSpPr>
        <p:spPr>
          <a:xfrm>
            <a:off x="2556000" y="6237360"/>
            <a:ext cx="1116000" cy="431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478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fices of the stom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orifi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1 in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median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vel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physiological sphinc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depends on the presence of mucosal folds, positive intra-abdominal pressure and few fibers from the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right cr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diaphragm which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n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yloric orif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1/2 in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median pla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ve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.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transpyloric plan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anatomical sphinc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contains circular muscle fi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tomach anatomy medical illustration"/>
          <p:cNvPicPr/>
          <p:nvPr/>
        </p:nvPicPr>
        <p:blipFill>
          <a:blip r:embed="rId1"/>
          <a:stretch/>
        </p:blipFill>
        <p:spPr>
          <a:xfrm>
            <a:off x="4643280" y="620640"/>
            <a:ext cx="4356360" cy="53182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lation of Anterior surface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tic area (liv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abdominal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atic area (Diaphrag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502W"/>
          <p:cNvPicPr/>
          <p:nvPr/>
        </p:nvPicPr>
        <p:blipFill>
          <a:blip r:embed="rId1"/>
          <a:srcRect l="0" t="12275" r="0" b="6089"/>
          <a:stretch/>
        </p:blipFill>
        <p:spPr>
          <a:xfrm>
            <a:off x="2394000" y="1989000"/>
            <a:ext cx="4411440" cy="473724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285480"/>
            <a:ext cx="903600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 of Posterior surface (stomach b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lated posteriorly to lesser sac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, spleen, left suprarenal gla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part of the left kidney, sple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y, pancreas, transverse mesoco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ansverse col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0" descr="stomach%20bed"/>
          <p:cNvPicPr/>
          <p:nvPr/>
        </p:nvPicPr>
        <p:blipFill>
          <a:blip r:embed="rId1"/>
          <a:stretch/>
        </p:blipFill>
        <p:spPr>
          <a:xfrm>
            <a:off x="1403280" y="3284640"/>
            <a:ext cx="6481800" cy="33130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Blood supply of the stomac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 Arterial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the branches of the celiac tru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ft gastric art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celiac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 gastric art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hepatic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ort gastric arte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lenic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ft gastroepiploic art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lenic art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 gastroepiploic art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gastroduodenal branch of the hepatic art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29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392360" cy="64072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20:12:40Z</dcterms:created>
  <dc:creator>Prof. Dr. Shawky</dc:creator>
  <dc:description/>
  <dc:language>en-US</dc:language>
  <cp:lastModifiedBy>Safa Osman</cp:lastModifiedBy>
  <dcterms:modified xsi:type="dcterms:W3CDTF">2016-09-25T12:23:30Z</dcterms:modified>
  <cp:revision>25</cp:revision>
  <dc:subject/>
  <dc:title>Stomach</dc:title>
</cp:coreProperties>
</file>